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Click to move the slide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9319-ACEB-46FA-9369-7AC0721A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B90-E8C9-4389-8935-49326C54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B66-74C9-4EEB-8E19-8C14068A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4B7-37C6-461D-AD7F-C46A3F22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83E-3494-4772-9334-CE76A80D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C21-9F55-44AE-9993-BAA377BA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CFC-322A-4AE8-A152-3ECAFFBB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A90-A524-4DF4-90E7-869BC6AB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99F-785D-4B35-BF5B-5A466A44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D1C-175E-49F9-BF84-EEC33142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9B9-42E2-463E-9FD0-56A9AAD7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E77-5468-48DC-B570-6FF74C96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18C-79BA-4433-A967-E5CEE70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F300-4741-4116-97B2-6A56A72905AC}" type="datetime">
              <a:rPr b="0" lang="en-US" sz="1400" spc="-1" strike="noStrike">
                <a:solidFill>
                  <a:srgbClr val="99cc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굴림"/>
              </a:rPr>
              <a:t>Team L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59D2-6936-4E35-A664-B2F2A7C24344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0" cy="5257800"/>
          </a:xfrm>
          <a:prstGeom prst="line">
            <a:avLst/>
          </a:prstGeom>
          <a:ln w="228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5257800"/>
            <a:ext cx="0" cy="1600200"/>
          </a:xfrm>
          <a:prstGeom prst="line">
            <a:avLst/>
          </a:prstGeom>
          <a:ln w="228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Team 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go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: Project Proposals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Pediatric Health Center of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navar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seon Ch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5A2-B730-48DC-8923-6CAE375EF11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B99A4-43DF-453C-9957-13B927870B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ximity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62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50440" y="5943600"/>
            <a:ext cx="4039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hildren’s medical center of Dayt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007 ICU design winn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575-3F2C-4C3B-9304-E97AC571AFA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43C36-4F38-446F-8316-58F88B319C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258920"/>
            <a:ext cx="8610480" cy="5522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ximit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굴림"/>
              </a:rPr>
              <a:t>– always near their child</a:t>
            </a:r>
            <a:br>
              <a:rPr sz="2400"/>
            </a:b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4572000"/>
            <a:ext cx="2362320" cy="20574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395520"/>
            <a:ext cx="1600200" cy="11001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1219320"/>
            <a:ext cx="2133720" cy="212724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097760" y="1676160"/>
            <a:ext cx="963720" cy="4496040"/>
            <a:chOff x="7097760" y="1676160"/>
            <a:chExt cx="963720" cy="4496040"/>
          </a:xfrm>
        </p:grpSpPr>
        <p:sp>
          <p:nvSpPr>
            <p:cNvPr id="96" name=""/>
            <p:cNvSpPr/>
            <p:nvPr/>
          </p:nvSpPr>
          <p:spPr>
            <a:xfrm>
              <a:off x="7162920" y="5334120"/>
              <a:ext cx="838080" cy="152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97760" y="5398920"/>
              <a:ext cx="217440" cy="773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238880" y="3733560"/>
              <a:ext cx="822600" cy="19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238880" y="2590560"/>
              <a:ext cx="76212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162920" y="1676160"/>
              <a:ext cx="0" cy="1066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02A-5177-4F64-AC42-DE0D35BDA84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DCB32-67A1-4ADD-AA84-774991D2CC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258920"/>
            <a:ext cx="8610480" cy="5522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굴림"/>
              </a:rPr>
              <a:t>Proximity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4572000"/>
            <a:ext cx="2362320" cy="20574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395520"/>
            <a:ext cx="1600200" cy="11001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1219320"/>
            <a:ext cx="2133720" cy="212724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1800" y="533520"/>
            <a:ext cx="45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 Territoriality, Security, Pers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219320"/>
            <a:ext cx="5562720" cy="55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ocket family areas which are assigned to specific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atient rooms near b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erritoriality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– recognized as their spa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Security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easy to identify person who us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he area &amp; card 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ersonalization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ossible to bring their chil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own toys or belongings and to use as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DDF-10B3-4193-8ECB-0685153EAE8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92BE4-DECD-4AD4-87A2-4F49694742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258920"/>
            <a:ext cx="8610480" cy="5522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 Narrow"/>
                <a:ea typeface="굴림"/>
              </a:rPr>
              <a:t>Proximity + Territoriality, Security, Personalization +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social interaction</a:t>
            </a:r>
            <a:br>
              <a:rPr sz="2400"/>
            </a:b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4572000"/>
            <a:ext cx="2362320" cy="20574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395520"/>
            <a:ext cx="1600200" cy="11001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1219320"/>
            <a:ext cx="2133720" cy="212724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219320"/>
            <a:ext cx="5562720" cy="55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00"/>
                </a:solidFill>
                <a:latin typeface="Arial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Frequency of family encounter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easy to encounter same family members and be familiar with each 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Interaction between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Emotional and informational suppor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from each 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0E4-ABAB-413C-AC7B-8F616C6B59B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98A16-4649-4D96-AD57-256D49533D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Steps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Customize pocket family are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acuity level of patients in un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ype of diseases in un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Introduce technologies to meet family nee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Come up with a proper size of pocket family are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Come up with the layout of customized pocket family are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EF1-68F4-42E8-AD77-DFB368AE04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511B4-E2F5-4F0A-9FC2-37A634E858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 Narrow"/>
              </a:rPr>
              <a:t>Principle and Problem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two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9cc00"/>
                </a:solidFill>
                <a:latin typeface="Arial"/>
              </a:rPr>
              <a:t>Princip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Provide caring, devoted, fast (reduced waiting time) service in the emergency depart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9cc00"/>
                </a:solidFill>
                <a:latin typeface="Arial"/>
              </a:rPr>
              <a:t>Problem Definition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Design an Emergency Department that h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ced waiting-time and congestion in 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fficient patient hand-over from ambulance to 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technology and mobile telephony to reduce the time for diagnosis and improve the turn around tim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9EB-209B-4CC2-8AB1-7F9AA4A844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13BE0-7B58-4BB6-A953-59A9F591C5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Why focus on this problem?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0,000 + annual patient vis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st of them are for non-urgent c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nsured families turn to the Emergency Department for primary c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verwhelming rush during peak tim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gestion leading to overflowing check-in area and cramped hallw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 is patient privacy in such chaotic environment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urrent facility layout also impedes operational efficiency. In a pediatric healthcare setting, every second counts. Yet minutes and hours are wasted transporting children to areas that should be located side by side”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rce:http://www.choa.org/Menus/Documents/Aboutus/hsoc/about_hughesspalding.pd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BF3-3E5B-4011-9319-6BC031097D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8ECE0-511B-42BC-8675-0956154985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Focus Idea 1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duce waiting time and create a healthy healing environ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idence based design for ED [R6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nical practice guidelines for specialty care like asthma [R1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mproving service at Triage (Bottleneck in ED is Triage!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am consulting in Triage [R3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ypothesis: A doctor and nurse team investigating patients can reduce the number of patient redirections in the ED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duced waiting time and conges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ini Registration in Triage [R2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4251240" cy="1511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3535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538-9E17-4ECC-BA0A-BC3AFB7A6FC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0B602-3D0F-4B28-8AAD-08AB217FFB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Focus Idea 2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mprove the patient handover at different stages through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ategic location of ambulance bay based on traff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ign of Ambulance bay to avoid congestion and bottle necks due to the incoming patient flow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location of bed and preliminary setup of ED before arrival of patient based on the initial diagnosis done on the patient during trans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fficient transfer of patients to Grady for advanced exam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walkways like in air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some overhead vision glas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178-0C4F-4D0E-B565-ACA71B475B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10581-746B-4773-B2EB-600E7733EA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Focus Idea 3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mproved technology enabled patient handover from ambulance to ED [R4, R5, R7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mission of Electronic ambulance record including vital sign information and EC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4s vs 7min (accomplished by using computers and mobile wireless network availab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 could try to transmit necessary info using cell ph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5437080" cy="22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1C9-BE85-4EF2-BD07-1D9B667AF3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A9B8D-DA86-4624-A91E-F845E1AD2C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Principle and Problem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one 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9cc00"/>
                </a:solidFill>
                <a:latin typeface="Arial"/>
              </a:rPr>
              <a:t>Principle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hysical environment to foster social interaction and support for patients and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9cc00"/>
                </a:solidFill>
                <a:latin typeface="Arial"/>
              </a:rPr>
              <a:t>Problem Definition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he current design of family area doesn’t encourage interactions between other family members and leave out the important source of social support for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D3A-97EA-4640-8620-EA6224D5F9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1D669-38EE-4412-AF32-0F7DE0C242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References [1]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1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dert J., Ramsden C.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4. Introduction of standardized emergency department pediatric asthma clinical guidelines into a general metropolitan hospital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ccident and Emergency Nur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2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Gorelick M., Yen K., Yun H.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4. The Effect of In-Room Registration on Emergency Department Length of Stay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nnals of Emergency Medici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3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 Subash, F Dunn, B McNicholl, J Marlow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4. Team triage improves emergency department efficiency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mergency Medicine Jour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4: V. Anantharaman, L. Han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1. Hospital and emergency ambulance link: using IT to enhance emergency pre-hospital care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ternational Journal of Medical Informa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60D-5769-4FC7-925C-3F62ABFFA0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84C64-8AB3-44F5-83BF-06A376F8AD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References [2]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5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 Jenkin, N. A. Mitchell, S Cooper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7. Patient handover: Time for a change?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ccident and Emergency Nur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6: W. B. Millard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7. The cost of KOI: Evidence-Based design in emergency medical facilities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nnals of Emergency Medici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7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tiris Pavlopoulos, Efthyvoulos Kyriacou, Alexis Berler, Spyros Dembeyiotis, and Dimitris Koutsouris : A Novel Emergency Telemedicine System based on Wireless Communication Technology—AMBUL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1CC-25AE-47AF-BB40-7C3371562F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E5259-F532-4356-BFE4-138B301061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</a:rPr>
              <a:t>Interesting Resources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statcom.com/flash/loader.html (Patient flow simulator; dashboard s/w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ww.archnewsnow.com/features/Feature37.htm (River Region Medical Center in Vicksburg, Mississipp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E1D-4039-4283-9491-46D08512B9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430E1-B319-4161-9AB5-AFAC4EDA12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1066680"/>
            <a:ext cx="3733920" cy="563904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066680"/>
            <a:ext cx="3733920" cy="563904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blem one – no interactions occurs between other family members</a:t>
            </a:r>
            <a:r>
              <a:rPr b="0" lang="en-US" sz="2500" spc="-1" strike="noStrike">
                <a:solidFill>
                  <a:srgbClr val="99cc00"/>
                </a:solidFill>
                <a:latin typeface="Arial Narrow"/>
                <a:ea typeface="굴림"/>
              </a:rPr>
              <a:t> </a:t>
            </a:r>
            <a:endParaRPr b="0" lang="en-US" sz="2500" spc="-1" strike="noStrike">
              <a:solidFill>
                <a:srgbClr val="99cc00"/>
              </a:solidFill>
              <a:latin typeface="Arial Narrow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5760" y="1676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85760" y="41529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76920" y="41529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876920" y="163836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23640" y="1066680"/>
            <a:ext cx="271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family area in Pediatr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tensive Care Unit at MC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440" y="1066680"/>
            <a:ext cx="258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family area in 4th fl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t M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DFE-D486-4C14-B8F1-601F33D200C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A293B-FD69-4A11-A654-A8B1679F84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The Patient room at MCG Children’s hospital</a:t>
            </a:r>
            <a:r>
              <a:rPr b="0" lang="en-US" sz="2000" spc="-1" strike="noStrike">
                <a:solidFill>
                  <a:srgbClr val="99cc00"/>
                </a:solidFill>
                <a:latin typeface="Arial Narrow"/>
                <a:ea typeface="굴림"/>
              </a:rPr>
              <a:t> </a:t>
            </a:r>
            <a:endParaRPr b="0" lang="en-US" sz="2000" spc="-1" strike="noStrike">
              <a:solidFill>
                <a:srgbClr val="99cc00"/>
              </a:solidFill>
              <a:latin typeface="Arial Narrow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197240" y="1452600"/>
            <a:ext cx="3041640" cy="197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>
            <a:lum bright="24000"/>
          </a:blip>
          <a:srcRect l="0" t="13154" r="0" b="0"/>
          <a:stretch/>
        </p:blipFill>
        <p:spPr>
          <a:xfrm>
            <a:off x="990720" y="1447920"/>
            <a:ext cx="304164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791320" y="3657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990720" y="365760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5867280" y="1447920"/>
            <a:ext cx="3041640" cy="1981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61120" y="6095880"/>
            <a:ext cx="2182680" cy="533520"/>
          </a:xfrm>
          <a:prstGeom prst="wedgeRoundRectCallout">
            <a:avLst>
              <a:gd name="adj1" fmla="val 40254"/>
              <a:gd name="adj2" fmla="val -200893"/>
              <a:gd name="adj3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4400" y="617220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ivate refrig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914400"/>
            <a:ext cx="1905120" cy="533520"/>
          </a:xfrm>
          <a:prstGeom prst="wedgeRoundRectCallout">
            <a:avLst>
              <a:gd name="adj1" fmla="val 28500"/>
              <a:gd name="adj2" fmla="val 113393"/>
              <a:gd name="adj3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62480" y="99072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ivate bath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62240"/>
            <a:ext cx="2438280" cy="723960"/>
          </a:xfrm>
          <a:prstGeom prst="wedgeRoundRectCallout">
            <a:avLst>
              <a:gd name="adj1" fmla="val 30796"/>
              <a:gd name="adj2" fmla="val -123245"/>
              <a:gd name="adj3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352680"/>
            <a:ext cx="23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ull body length so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990720"/>
            <a:ext cx="990360" cy="533160"/>
          </a:xfrm>
          <a:prstGeom prst="wedgeRoundRectCallout">
            <a:avLst>
              <a:gd name="adj1" fmla="val 44388"/>
              <a:gd name="adj2" fmla="val 233333"/>
              <a:gd name="adj3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4840" y="10666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21D-71FB-4B13-8A0A-372F8163F8C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E1529-25C7-40ED-A8CC-D63982D2F8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vidence one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Families comforting one another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resence of other family members soothes family members’ emotional suffering by comforting one another in trauma resuscitation room (Morse and Pooler 2002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Family members who are familiar with surroundings gave the patient and other family memb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reassuranc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of the care (“I’ve worked with these guys; they are good”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encourag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(“Don’t worry; she is heading in the right direction”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information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(“The analgesic will be working soon”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(Morse and Pooler 200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8F0-9A7C-4A05-B43C-8BA37D85BFD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B7039-CD32-4E08-AF2E-CFD60C0CC1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vidence two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family needs in ICU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he considerable amount of studies identifi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5 needs of families in the ICU settings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assur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proxim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comfort need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(Molter, 1987; Bouman, 1984; Daley, 1984; Leske, 1986; Norris &amp; Grove, 1986; Price, Forrester, Murphy, &amp; Monaghan, 199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AC5-F716-4A65-95CE-E717E3C32B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DEB20-F8E8-4C2A-AC03-286D8A1EB2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vidence three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spatial needs for families</a:t>
            </a: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 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he survey result collected from 155 nursing staff indicated 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needs of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peaceful place for discuss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for interaction between family members and nurses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tedt-Kurki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et al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1)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27% out of 48 family members commented on the need for 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improved physical spa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to have family discussion and conference with physicians (Abbott, 2001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wo of parameters considered to be important for ICU settings were; 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  <a:ea typeface="굴림"/>
              </a:rPr>
              <a:t>1) waiting room availability’; 2) room availability for family information availabl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(Azoulay, 2002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597-DFE7-4854-A7CB-5740F668BC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4FCD4-92B3-4AB3-B091-DDEAA2408C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Evidence three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ximity 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A private family area with a patient room meets this proximity need but it is also limiting the source of other needs such as informational, assurance, and suppor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Personal experience: 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 did not want to be far from her, but to give her any kind of privacy or quie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re was no place nearby to g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. 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we sat in the hallway outside her room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6C3-70FD-4C3B-A556-8DEF2F16DD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B0407-8420-479E-8B5F-B679EA3380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Project idea one: </a:t>
            </a:r>
            <a:r>
              <a:rPr b="1" lang="en-US" sz="2400" spc="-1" strike="noStrike">
                <a:solidFill>
                  <a:srgbClr val="99cc00"/>
                </a:solidFill>
                <a:latin typeface="Arial Narrow"/>
                <a:ea typeface="굴림"/>
              </a:rPr>
              <a:t>Customized Pocket Family area</a:t>
            </a:r>
            <a:endParaRPr b="0" lang="en-US" sz="2400" spc="-1" strike="noStrike">
              <a:solidFill>
                <a:srgbClr val="99cc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To meet five needs of family memb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assur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sup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proximit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comfort need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To foster interaction between families of other pati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Territoria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Secur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Personaliz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Frequency of encount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Inter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  <a:ea typeface="굴림"/>
              </a:rPr>
              <a:t>Social support – informational and emotion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727-907D-41A1-9F17-3577B62091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1989E-8457-4B7F-BD61-C5BD67296E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8:42:16Z</dcterms:created>
  <dc:creator>gtg977i</dc:creator>
  <dc:description/>
  <dc:language>en-US</dc:language>
  <cp:lastModifiedBy>gtg977i</cp:lastModifiedBy>
  <dcterms:modified xsi:type="dcterms:W3CDTF">2007-10-11T20:35:05Z</dcterms:modified>
  <cp:revision>462</cp:revision>
  <dc:subject/>
  <dc:title>The effect of family friendly environment on family involvement in care and its potential role in improving quality of care</dc:title>
</cp:coreProperties>
</file>